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710-089E-4A8F-8D99-92C51774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E2C-C4DE-4A31-97DB-06242347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EA7-2476-44B2-A674-3EA0F31A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402-ED27-4B00-9D05-40270C95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A226-7A1F-4004-B23F-472FB059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026E-B6C9-46D3-A906-A77435A8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0B17-2B4D-4063-B430-4E394537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0DE7-8859-4CD1-B95A-6B8BD477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843C-7678-4397-880A-D000C714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E495-2621-4FFF-8505-B0ED3871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766F-ED2C-4A57-96F9-4FA280D9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6CB-B8B8-4DFC-8436-4A4FB0E9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F3C3-E913-4589-A674-890CA8F6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0561-88D4-46DE-90B3-8DE1BC63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E760-38C1-4A85-9AD7-8CF93133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660A-8178-480F-81AA-9AC63D44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3F92-F4D6-4F4A-8CE5-84C450BD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F1E-4609-4285-A41E-E1CBAED4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BCA-7DD7-4782-93C5-B2943C33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17C-ABD4-49AE-AB29-03E20985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4D7-E675-4373-AA20-E3C2F402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278-9BC6-41D1-B186-41F4B370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240-5CAE-4E62-A80C-9206B381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A2C-606F-431E-9A5F-45B3381D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4BF4-B59E-4EA2-ADAC-DCEB30E52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4613-E5CC-467E-9D5A-D5F85E4A97E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Bradley Hand ITC TT-Bold"/>
              </a:rPr>
              <a:t>Le Plus-que-parfait</a:t>
            </a:r>
            <a:r>
              <a:rPr b="1" lang="en-GB" sz="4000" spc="-1" strike="noStrike">
                <a:solidFill>
                  <a:srgbClr val="000066"/>
                </a:solidFill>
                <a:latin typeface="Bradley Hand ITC TT-Bold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000066"/>
                </a:solidFill>
                <a:latin typeface="Bradley Hand ITC TT-Bold"/>
              </a:rPr>
              <a:t>(Pluperfect Tense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Bradley Hand ITC TT-Bold"/>
              </a:rPr>
              <a:t>or, how to say what you HAD done in Fren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Bradley Hand ITC TT-Bold"/>
              </a:rPr>
              <a:t>How do I form it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Bradley Hand ITC TT-Bold"/>
              </a:rPr>
              <a:t>Use the IMPERFECT auxiliary (avoir or êtr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’avais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’éta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tu avais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tu éta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il avait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il éta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nous avions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nous é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vous aviez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vous étiez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ils avaient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ils étaient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Bradley Hand ITC TT-Bold"/>
              </a:rPr>
              <a:t>PLU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Bradley Hand ITC TT-Bold"/>
              </a:rPr>
              <a:t>the PAST PARTICIPLE of the verb you wan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Bradley Hand ITC TT-Bold"/>
              </a:rPr>
              <a:t>What does it look like then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parler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partir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se prépar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j’avais parlé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j’étais parti(e)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je m’étais préparé(e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tu avais parlé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tu étais parti(e)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tu t’étais préparé (e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il avait parlé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il était parti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il s’était préparé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elle avait parlé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elle était partie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elle s’était préparé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nous avions parlé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nous étions parti(e)s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1600" spc="-1" strike="noStrike">
                <a:solidFill>
                  <a:srgbClr val="000066"/>
                </a:solidFill>
                <a:latin typeface="Bradley Hand ITC TT-Bold"/>
              </a:rPr>
              <a:t>nous nous étionspréparé(e)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vous aviez parlé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vous étiez parti(e)(s) 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1600" spc="-1" strike="noStrike">
                <a:solidFill>
                  <a:srgbClr val="000066"/>
                </a:solidFill>
                <a:latin typeface="Bradley Hand ITC TT-Bold"/>
              </a:rPr>
              <a:t>vous vous étiez préparé(e)(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ils avaient parlé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ils étaient partis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ils s’étaient préparé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elles avaient parlé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elles étaient parties</a:t>
            </a:r>
            <a:r>
              <a:rPr b="0" lang="en-GB" sz="22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elles s’étaient préparées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Bradley Hand ITC TT-Bold"/>
              </a:rPr>
              <a:t>What does it MEAN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The Pluperfect translates the idea of “had been” or “had been doing”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’avais mangé avant de partir.     (avoir verb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i="1" lang="en-GB" sz="2400" spc="-1" strike="noStrike">
                <a:solidFill>
                  <a:srgbClr val="000066"/>
                </a:solidFill>
                <a:latin typeface="Bradley Hand ITC TT-Bold"/>
              </a:rPr>
              <a:t>I had eaten before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’étais parti de bonne heure ce jour-là.    (être verb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i="1" lang="en-GB" sz="2400" spc="-1" strike="noStrike">
                <a:solidFill>
                  <a:srgbClr val="000066"/>
                </a:solidFill>
                <a:latin typeface="Bradley Hand ITC TT-Bold"/>
              </a:rPr>
              <a:t>I had left early that da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e m’étais levé de très bonne heure.    (reflexive verb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i="1" lang="en-GB" sz="2400" spc="-1" strike="noStrike">
                <a:solidFill>
                  <a:srgbClr val="000066"/>
                </a:solidFill>
                <a:latin typeface="Bradley Hand ITC TT-Bold"/>
              </a:rPr>
              <a:t>I had got up very earl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’avais étudié avant de me coucher.    (avoir verb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Bradley Hand ITC TT-Bold"/>
              </a:rPr>
              <a:t>	</a:t>
            </a:r>
            <a:r>
              <a:rPr b="0" i="1" lang="en-GB" sz="2400" spc="-1" strike="noStrike">
                <a:solidFill>
                  <a:srgbClr val="000066"/>
                </a:solidFill>
                <a:latin typeface="Bradley Hand ITC TT-Bold"/>
              </a:rPr>
              <a:t>I had been studying before going to b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Bradley Hand ITC TT-Bold"/>
              </a:rPr>
              <a:t>Traduisez..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Elle avait parlé et puis nous sommes parti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Il avait déjà fini quand je suis arrivé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Il avait plu pendant la nuit et tout était trempé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Elle m’a demandé si j’avais vu le film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Ils étaient déjà descendus quand je suis entré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She had spoken and then we lef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He had already finished when I arriv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It had rained in the night and everything was soaked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She asked me if I had seen the film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They had already come down when I came 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Bradley Hand ITC TT-Bold"/>
              </a:rPr>
              <a:t>Complétez...</a:t>
            </a:r>
            <a:br>
              <a:rPr sz="4000"/>
            </a:br>
            <a:r>
              <a:rPr b="0" lang="en-GB" sz="4000" spc="-1" strike="noStrike">
                <a:solidFill>
                  <a:srgbClr val="000066"/>
                </a:solidFill>
                <a:latin typeface="Bradley Hand ITC TT-Bold"/>
              </a:rPr>
              <a:t>Maman a demandé si...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nous (f)  / déjà/ rentr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papa / lire /  rom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tu / faire / vaissel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e / promener / chi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mon frère / se couc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vous / voir / program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nous / finir / devoi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ma soeur / se le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e / sortir / ciném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nous étions déjà rentré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papa avait lu le rom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tu avais fait la vaissel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’avais promené le chi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mon frère s’était couché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vous aviez vu le programm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Bradley Hand ITC TT-Bold"/>
              </a:rPr>
              <a:t>nous avions fini nos devoi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ma soeur s’était levé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radley Hand ITC TT-Bold"/>
              </a:rPr>
              <a:t>j’étais sorti au ciném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0:36:07Z</dcterms:created>
  <dc:creator>Julia Brown</dc:creator>
  <dc:description/>
  <dc:language>en-US</dc:language>
  <cp:lastModifiedBy>scollett</cp:lastModifiedBy>
  <dcterms:modified xsi:type="dcterms:W3CDTF">2010-11-10T23:45:01Z</dcterms:modified>
  <cp:revision>3</cp:revision>
  <dc:subject/>
  <dc:title>Le Plus-que-parfait  (Pluperfect Tense)</dc:title>
</cp:coreProperties>
</file>